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D4E1-BBD0-4968-ACA6-4E24EC0A0E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D182-B461-4292-8DBB-B22FFB04850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60FA-1D30-4DF6-86B7-FE9C376A3F7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F3A-5B6C-41FC-A5E1-68BC4C0BB08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889-E52A-48F6-B7CF-1A6F43C7FCB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5000-7866-4E20-BF23-DFAB3BDDB3E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6FB4-553D-4B96-9C8B-22D79A1F7B2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7B38-6F5F-4721-AC88-EDEEDEAAE3D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46EF-88E1-491D-9322-A92AE85CCFB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6ED6-CDA0-4BC1-9CD2-C0507070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A1FD-E2A8-4172-9F71-0FCE391C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6288-415B-469C-AF30-7BD7DE03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B35E-C9B2-47EF-B1D7-E5144FE3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B43D-6238-4058-9C14-99E9E3DD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6486-8A82-45DD-BA19-DE52123B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E738-27D6-4CC5-B4B8-D48C45E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55BE-0CB6-4A91-9A44-6A5BB2DD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30CD-B8A4-4CF8-AB0D-29F7F14C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51B7-81B8-4E66-9F4F-99DFED99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D713-9DEA-409B-8031-91D229FE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61A6-CE25-4DE7-B38F-829574E8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520D7-68F1-45B6-BFE9-A7F9CB0A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DD1C0-F6A6-4614-893F-3DD6141C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05953-017C-4A0D-A0E6-F6E1ADA7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F101E-C1C0-42DB-A51C-13266F4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38403-9C43-4355-9FD1-5850A5FA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1B571-BDAC-43ED-9959-B9085FD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12890-F580-462D-81E4-5830B33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3082C-7F21-46FE-AAD7-2D6FE6A1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44C57-3651-4E6C-B0DC-D69B379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7191E-9105-4EDF-BF3B-C2D8F662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FB132-9D03-4306-88CC-EFDCC3DF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941FF-67A8-4BC8-974B-E0330953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D78F3-D94F-4318-BAFF-E8B42157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B4647-BB1C-4AFF-BB2A-4A6AEF53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9996D-361E-459B-811E-50B1E175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32D4E-54C8-46DB-8D90-D323187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7D029-A852-4F03-93EC-7F9F36DD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87CD5-E11E-4947-A494-2EC33F2D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E60EA-55EA-4224-83D3-0E3CD840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72A00-547A-4A91-BCC4-E8E57F0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8A324-A2CC-4F03-B104-C1E25374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316DB-23EF-4549-B82F-9D1BA953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00E05-558F-412B-9821-8890980C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422B9-0F72-4C89-BD3E-EB2A970E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64F2-C0B5-49A1-BFDE-A31BCEE3568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090B-FB44-4510-BB8D-B265F59B315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E25E-A75D-42B0-BEB5-77AF46C2616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AC96-329F-4F6F-B497-385DA14EC0A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0D77-BE7B-41D6-B544-2FEAFBD6F2F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AB4-06D9-423C-AF53-620C18E84C3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EF42-B268-4A4C-8E27-F6763009D1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11A-1BC5-4503-9E4C-C4DCEED5B52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E948-605A-4106-B6E5-29504AD3698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C91F-8BF6-4768-B067-C63B1C99A8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3013-BE8B-48E0-AA01-0907C73C5CD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AFDD-B270-4A37-98FF-E051A1D49A1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89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4.0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8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가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178920" y="1731600"/>
                <a:ext cx="882216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58160" cy="6000840"/>
            <a:chOff x="142920" y="214200"/>
            <a:chExt cx="885816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58160" cy="4429440"/>
              <a:chOff x="142920" y="1785600"/>
              <a:chExt cx="885816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36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8688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되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 또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를 경험하는 경우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시간이 줄어들어 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08000" y="142920"/>
            <a:ext cx="8928000" cy="6278400"/>
            <a:chOff x="108000" y="142920"/>
            <a:chExt cx="8928000" cy="6278400"/>
          </a:xfrm>
        </p:grpSpPr>
        <p:sp>
          <p:nvSpPr>
            <p:cNvPr id="816" name="AutoShape 2"/>
            <p:cNvSpPr/>
            <p:nvPr/>
          </p:nvSpPr>
          <p:spPr>
            <a:xfrm>
              <a:off x="108000" y="714240"/>
              <a:ext cx="8892720" cy="5643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23640" y="765000"/>
              <a:ext cx="871236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종말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terminal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drop)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현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창의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3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정점 이후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이후에도 창의성 발휘 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도 감소로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0.33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학습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 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해 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라는 협의의 개념을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66960"/>
            <a:chOff x="108000" y="142920"/>
            <a:chExt cx="9288360" cy="6366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69264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6602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부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12640"/>
              <a:ext cx="8893080" cy="5097240"/>
              <a:chOff x="108000" y="1412640"/>
              <a:chExt cx="8893080" cy="509724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916640"/>
                <a:ext cx="8893080" cy="4593240"/>
                <a:chOff x="108000" y="1916640"/>
                <a:chExt cx="8893080" cy="459324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6640"/>
                  <a:ext cx="8819640" cy="4529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92528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가족이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 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126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등으로 기존 사회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 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12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367320"/>
            <a:chOff x="285840" y="0"/>
            <a:chExt cx="8858160" cy="636732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6081840"/>
              <a:chOff x="285840" y="285480"/>
              <a:chExt cx="8643960" cy="608184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321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196280"/>
                <a:ext cx="8504640" cy="51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 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-79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의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가역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동작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r>
                  <a:rPr b="0" lang="en-US" sz="1600" spc="-1" strike="noStrike">
                    <a:solidFill>
                      <a:srgbClr val="1d528d"/>
                    </a:solidFill>
                    <a:latin typeface="HY강B"/>
                  </a:rPr>
                  <a:t>(Rowe &amp; Kahn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830200"/>
            <a:chOff x="142920" y="428760"/>
            <a:chExt cx="8858160" cy="583020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87320"/>
              <a:chOff x="180720" y="1871640"/>
              <a:chExt cx="8820360" cy="438732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41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키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 치아 개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8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+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니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지고 탄력약화 → 관절염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의 의지대로 움직일 수 있는 근육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6980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381720"/>
            <a:chOff x="181080" y="142920"/>
            <a:chExt cx="8820000" cy="638172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620640"/>
              <a:ext cx="8820000" cy="5904000"/>
              <a:chOff x="181080" y="620640"/>
              <a:chExt cx="8820000" cy="590400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620640"/>
                <a:ext cx="8820000" cy="59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785160"/>
                <a:ext cx="8643960" cy="54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콩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로 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종류에 따라 감소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증가하는 경우가 있으나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화와 함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수용체 감수성 저하로 내분비 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적 관계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41:11Z</dcterms:modified>
  <cp:revision>2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